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4E3-C2DF-4FF7-BACA-97136F91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A56-3F12-4D64-8133-688186C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CC0-2DB8-4005-A8B4-83797FFC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185-25E8-40A0-B75C-40C73B03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FA0-7675-4AAB-BE30-5FE32BB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1C7-B19B-4EF1-A682-61497E7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F4A-3DB2-438E-864B-90DD7B6B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C6E-D62C-4E42-A8E6-3B9ABBCB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1E4-B13E-41A9-8E6D-B8CAA71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ADC-D7B9-4395-99FB-96D0AFB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253-C4A7-4A6E-B572-93D28B3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A91-22BE-4F84-BDF8-A1425EA0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EDD-062D-4792-9320-738B92A20FB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Coastal Erosion Featur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cgz.e2bn.net/e2bn/leas/c99/schools/cgz/accounts/staff/rchambers/GeoBytes/GCSE%20Revision/Unit%201/Coasts/Coastal%20Images/Cliff_Erosion.jpg"/>
          <p:cNvPicPr/>
          <p:nvPr/>
        </p:nvPicPr>
        <p:blipFill>
          <a:blip r:embed="rId1"/>
          <a:stretch/>
        </p:blipFill>
        <p:spPr>
          <a:xfrm>
            <a:off x="988920" y="1197000"/>
            <a:ext cx="72723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ves, Arches, Stacks, And Stum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ly seen on headlan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ves start by attacking the main points of weakness in the rock: the joints and faul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oint of weakness is increased in size until it becomes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aves continue to attack the cave, which finally results in a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rc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ing formed through the headl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rch is attacked both by coastal erosion and sub-aerial erosion and finally the roof of the arch falls into the s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leaves behind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ck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hich is then slowly eroded down to become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um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ves, Arches, Stacks, And Stum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www.bbc.co.uk/scotland/learning/bitesize/higher/geography/images/02_costal_erosion.gif"/>
          <p:cNvPicPr/>
          <p:nvPr/>
        </p:nvPicPr>
        <p:blipFill>
          <a:blip r:embed="rId1"/>
          <a:stretch/>
        </p:blipFill>
        <p:spPr>
          <a:xfrm>
            <a:off x="237960" y="1413000"/>
            <a:ext cx="8612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astal Erosion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astal erosion processes create a number of significant landfor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are a number of factors which affect the rate of this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ck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more resistant rock, such as granite, will be eroded slowly, whilst a less resistant rock, such as clay or mud, can be eroded very quick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ing / Faul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more faults and joints a rock has the more susceptible it is to erosion, both from coastal and sub-aerial proc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astal Rock Arrang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coastline with rocks that run parallel to the coast is called a concordant or "Pacific" coastline. One that has rocks running at right angles to the coast is called a discordant or "Atlantic" coast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)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ock Angl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The angle that the coastal rocks dip can also cause erosion to occur at different rates. Many rocks around the coasts of Britain are sedimentary, meaning they are layer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that dip towards the sea produce gently sloping cliffs that are often affected badly by mass movement process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that dip away from the sea produce an uneven, steep cliff face with many overhang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that are horizontally bedded produce a steep cliff with small overhang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with vertical beds will produce vertical cliffs if the layer closest to the sea is resista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eadlands And B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on an Atlantic (discordant) coastline due to the softer rock being eroded quicker than the harder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ches form in the bays where the soft rock has been eroded a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lands of more resistant, hard rock are left beh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eadlands And B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cgz.e2bn.net/e2bn/leas/c99/schools/cgz/accounts/staff/rchambers/GeoBytes/GCSE%20Revision/Unit%201/Coasts/Coastal%20Images/Headlands_and_Bays.jpg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ffs are formed when destructive waves attack the bottom of the rock face between high and low water m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under attack is eroded using the major processes of coastal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s of weakness, such as faults and joints are attacked most, and eventually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ve-cut no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gouged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ck above overhangs the notch, and as it is cut deeper into the rock, gravity causes the overhanging rock to collap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oose rocks are removed by the sea and transported along the coast by long shore dri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hole process of undercutting the cliff begins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cliff is eroded backwards it leaves behi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ve-cut platform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level of the low water m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latform is rarely eroded, as the waves energy is concentrated on eroding the area between the high and low water mark, and not the rock that is undernea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51:02Z</dcterms:created>
  <dc:creator>Dell_02</dc:creator>
  <dc:description/>
  <dc:language>en-US</dc:language>
  <cp:lastModifiedBy>Dell_02</cp:lastModifiedBy>
  <dcterms:modified xsi:type="dcterms:W3CDTF">2011-01-27T00:09:27Z</dcterms:modified>
  <cp:revision>2</cp:revision>
  <dc:subject/>
  <dc:title>Coastal Erosion Features</dc:title>
</cp:coreProperties>
</file>